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camera.wav" ContentType="audio/x-wav"/>
  <Override PartName="/ppt/media/image5.wmf" ContentType="image/x-wmf"/>
  <Override PartName="/ppt/media/image6.png" ContentType="image/png"/>
  <Override PartName="/ppt/media/image3.wmf" ContentType="image/x-wmf"/>
  <Override PartName="/ppt/media/image4.wmf" ContentType="image/x-wmf"/>
  <Override PartName="/ppt/media/carbrak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8993-52DD-4A5E-9F42-86F5A672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C757-E8CA-4E36-A837-0A43F598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0254-A973-4199-B8B2-4DA8665DA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063A-97DA-4C46-B344-3709859B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32C3-BA98-4B0D-887C-AB74AA81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3676-99D0-40F4-9798-C32734F0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0262-C5BC-4A68-A7C1-03A0D008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3BE2-8B5B-492B-A3E1-8527A0C0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CA17-CE0F-49D1-B8CC-8E7A866C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9B99-6EF5-4080-84EC-FFCCB7C2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9F82-DC46-4845-9382-6E735675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BEDC-11BE-4E2B-A1EC-4FC7CE8C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3C73-2E5A-4EB5-B46A-5CBDEFE68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066680" y="1752480"/>
            <a:ext cx="73915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cond Grad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ater Cyc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2732040" y="1800360"/>
            <a:ext cx="868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http://www.cp-ws.com/images/WaterCycle2.gif"/>
          <p:cNvPicPr/>
          <p:nvPr/>
        </p:nvPicPr>
        <p:blipFill>
          <a:blip r:embed="rId1"/>
          <a:stretch/>
        </p:blipFill>
        <p:spPr>
          <a:xfrm>
            <a:off x="609480" y="838080"/>
            <a:ext cx="79250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ater Cycl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Times New Roman"/>
              </a:rPr>
              <a:t>Evapor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Times New Roman"/>
              </a:rPr>
              <a:t>Condens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Times New Roman"/>
              </a:rPr>
              <a:t>Precipit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Su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Heat from the sun changes water into water vap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" descr="c:\Program Files\Common Files\Microsoft Shared\Clipart\cagcat50\so01038_.wmf"/>
          <p:cNvPicPr/>
          <p:nvPr/>
        </p:nvPicPr>
        <p:blipFill>
          <a:blip r:embed="rId1"/>
          <a:stretch/>
        </p:blipFill>
        <p:spPr>
          <a:xfrm>
            <a:off x="685800" y="2122560"/>
            <a:ext cx="380988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838080" y="990720"/>
            <a:ext cx="754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en the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sun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changes water into water vapor, this is call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3333cc"/>
                </a:solidFill>
                <a:latin typeface="Times New Roman"/>
              </a:rPr>
              <a:t>EVAPOR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Condensa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Water vapor forms cloud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c:\Program Files\Microsoft Office\Clipart\photohm\j0144391.jpg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457200" y="114300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When water vapor forms clouds this is called CONDENS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ccff"/>
                </a:solidFill>
                <a:latin typeface="Times New Roman"/>
              </a:rPr>
              <a:t>Rain or snow falls from clou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c:\Program Files\Microsoft Office\Clipart\Pub60Cor\na01682_.wmf"/>
          <p:cNvPicPr/>
          <p:nvPr/>
        </p:nvPicPr>
        <p:blipFill>
          <a:blip r:embed="rId1"/>
          <a:stretch/>
        </p:blipFill>
        <p:spPr>
          <a:xfrm>
            <a:off x="380880" y="2895480"/>
            <a:ext cx="4146840" cy="3468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Program Files\Microsoft Office\Clipart\standard\stddir3\na01681_.wmf"/>
          <p:cNvPicPr/>
          <p:nvPr/>
        </p:nvPicPr>
        <p:blipFill>
          <a:blip r:embed="rId2"/>
          <a:stretch/>
        </p:blipFill>
        <p:spPr>
          <a:xfrm>
            <a:off x="5105520" y="2895480"/>
            <a:ext cx="370368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80880" y="11430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e call this </a:t>
            </a:r>
            <a:r>
              <a:rPr b="0" lang="en-US" sz="7200" spc="-1" strike="noStrike">
                <a:solidFill>
                  <a:srgbClr val="ccccff"/>
                </a:solidFill>
                <a:latin typeface="Times New Roman"/>
              </a:rPr>
              <a:t>PRECIPIT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er Cycle Song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o the tune of  “She’ll Be Coming Around the Mountain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609480" y="1752480"/>
            <a:ext cx="8153640" cy="53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ater travels in a cycle, yes it do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se pointer finger to draw large circle in ai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ater travels in a cycle, yes it do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peat above mo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t goes up as evaporation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aise arms at side with palms 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ms clouds as condens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ings hands together above head, forming large cloud shape with ar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n falls down as precipitation, yes it do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lowly lower arms at side with palms down, fingers mov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c:\Program Files\Microsoft Office\Clipart\standard\stddir2\en00501_.wmf"/>
          <p:cNvPicPr/>
          <p:nvPr/>
        </p:nvPicPr>
        <p:blipFill>
          <a:blip r:embed="rId1"/>
          <a:stretch/>
        </p:blipFill>
        <p:spPr>
          <a:xfrm>
            <a:off x="6858000" y="228600"/>
            <a:ext cx="1828800" cy="838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:\Program Files\Microsoft Office\Clipart\standard\stddir2\en00501_.wmf"/>
          <p:cNvPicPr/>
          <p:nvPr/>
        </p:nvPicPr>
        <p:blipFill>
          <a:blip r:embed="rId2"/>
          <a:stretch/>
        </p:blipFill>
        <p:spPr>
          <a:xfrm>
            <a:off x="457200" y="304920"/>
            <a:ext cx="1828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6T13:55:30Z</dcterms:created>
  <dc:creator>Sedalia</dc:creator>
  <dc:description/>
  <dc:language>en-US</dc:language>
  <cp:lastModifiedBy>teacher</cp:lastModifiedBy>
  <dcterms:modified xsi:type="dcterms:W3CDTF">2011-11-29T02:15:17Z</dcterms:modified>
  <cp:revision>2</cp:revision>
  <dc:subject/>
  <dc:title>PowerPoint Presentation</dc:title>
</cp:coreProperties>
</file>